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717-C603-4F59-BBED-7F1FB9AC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2AB-7BA7-4DCE-9083-4AFB6455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E28-AFB3-46B6-9C99-CD128395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EED-ADD9-4A98-8C6A-16EF4DAD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D8DA-DC95-41B1-A00D-FCAF2717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A022-9952-444A-A68C-8CD5A028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D9F4-35CF-445F-B79B-5B6426D8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F11-14E2-4950-B047-9B9C9CD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5D71-0806-4FBE-8917-33C3FB7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3CD7-3812-473E-B438-3109C739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3DDA-CC15-468A-A899-0B21955D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F5D-34DF-42C4-9B52-3B6E95F6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790E-E45B-4491-9596-11DD2CA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CF3E-8A75-47F5-972C-743085C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634F-282E-402B-8DE6-12125243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7BB9-EA01-4EFA-A01E-597CF1CD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0D4B-E7A0-48B4-9D33-4C87BA80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D77-E967-4EF1-90AE-9C43DF9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896-C20D-4A72-A12F-C999A62E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1C2-0767-454E-8B40-73B77472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92D-E51E-4F74-B894-2E9A47AB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C96-FA4E-45C0-9335-4E2C06F7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4F4-34AB-4548-9BAC-67E6EFAF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55D-6998-4B80-B6FD-71C8970E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7541-8464-4950-9C6C-AAB8469AE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C0C1-4D74-44AE-9B52-DE081525C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Mural Words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adapted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mall groups or partners to illustrate a set of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Mural Word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class into small groups or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group 4-5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group 11x 14 paper and mar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ke a poster using the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groups share their words and poster with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m up for dis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5:10:55Z</dcterms:modified>
  <cp:revision>11</cp:revision>
  <dc:subject/>
  <dc:title>Light Up the World A vocabulary game from Mentoring Minds Grades 1-4</dc:title>
</cp:coreProperties>
</file>